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175-768B-4259-A992-253B2E04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A38-D172-454A-A82D-CC9BD2FA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D02-3E56-4BB3-A137-8A5FAE3E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7A2-5211-43A4-9147-37EA9137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6BF-D2F8-463F-BF72-6179854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3FC-4623-4992-8FF1-4E768BA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574-F069-4BCF-872B-1D6C129B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2A2-C1C3-4ADB-ACB2-F2F06B7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3C7-5C39-485A-8341-A76BAE37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512-63F4-483E-A133-FA2DA87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5EC-550A-4E0D-8B83-041090B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2BB-B18B-4B89-8420-F03C5A6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7C5E-95E5-4A19-99D3-991CB1347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lptures-by-bjh.com/images/the%2520Confrontation-closeup%2520heads%2520left.jpg&amp;imgrefurl=http://www.sculptures-by-bjh.com/miscellan.htm&amp;h=545&amp;w=576&amp;sz=25&amp;hl=en&amp;start=5&amp;tbnid=jcAAIxFOHYuCJM:&amp;tbnh=127&amp;tbnw=134&amp;prev=/images%3Fq%3Dconfrontation%26svnum%3D10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urekaheritage.org/images/Carson%2520Mansion%2520pic%252004.JPG&amp;imgrefurl=http://www.eurekaheritage.org/carson_mansion_css.html&amp;h=960&amp;w=1280&amp;sz=190&amp;hl=en&amp;start=2&amp;tbnid=vr9kWBepJd_rkM:&amp;tbnh=113&amp;tbnw=150&amp;prev=/images%3Fq%3Dmansion%26svnum%3D10%26hl%3Den%26lr%3D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antransit.reptiles.org/images/1998-03-10/close-fox-apr2.jpg&amp;imgrefurl=http://pantransit.reptiles.org/images/sorted/photo/animal/&amp;h=529&amp;w=747&amp;sz=150&amp;hl=en&amp;start=14&amp;tbnid=6EYA9vc7nQGBiM:&amp;tbnh=100&amp;tbnw=141&amp;prev=/images%3Fq%3Dfox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alingdaily.com/detoxification-diet/cayenne.jpg&amp;imgrefurl=http://www.healingdaily.com/detoxification-diet/cayenne.htm&amp;h=200&amp;w=200&amp;sz=5&amp;hl=en&amp;start=8&amp;tbnid=tzWBFrba2SFa2M:&amp;tbnh=104&amp;tbnw=104&amp;prev=/images%3Fq%3DPepper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imals.timduru.org/dirlist/dino/Dinosaur-Giganotosaurus_carolinii-Illust.jpg&amp;imgrefurl=http://animals.timduru.org/dirlist/dino/&amp;h=272&amp;w=413&amp;sz=15&amp;hl=en&amp;start=9&amp;tbnid=wuhcew9Z459xVM:&amp;tbnh=82&amp;tbnw=125&amp;prev=/images%3Fq%3DDinosau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tlex.com/ArtLex/t/images/talisman_crescent.n.red.jpg&amp;imgrefurl=http://www.artlex.com/ArtLex/T.html&amp;h=269&amp;w=200&amp;sz=14&amp;hl=en&amp;start=12&amp;tbnid=kxpb658q8C2k9M:&amp;tbnh=113&amp;tbnw=84&amp;prev=/images%3Fq%3DTalisman%26svnum%3D10%26hl%3Den%26lr%3D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pe.edu/academic/dance/dance31/img/RayBW9.jpg&amp;imgrefurl=http://www.hope.edu/academic/dance/dance31gallery.htm&amp;h=1000&amp;w=1500&amp;sz=390&amp;hl=en&amp;start=13&amp;tbnid=JykFRFUwuDbMaM:&amp;tbnh=100&amp;tbnw=150&amp;prev=/images%3Fq%3DDanc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ssgames.us/images/chess-game-480.jpg&amp;imgrefurl=http://www.chessgames.us/&amp;h=480&amp;w=480&amp;sz=39&amp;hl=en&amp;start=41&amp;tbnid=vshtbW8z3ytgvM:&amp;tbnh=129&amp;tbnw=129&amp;prev=/images%3Fq%3Dchess%26start%3D40%26ndsp%3D20%26svnum%3D10%26hl%3Den%26lr%3D%26rls%3DGGLJ,GGLJ:2006-10,GGLJ: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timeinc.net/cooking/flavorprofiles/molasses_m.jpg&amp;imgrefurl=http://profile.myspace.com/index.cfm%3Ffuseaction%3Duser.viewprofile%26friendid%3D454350&amp;h=211&amp;w=211&amp;sz=9&amp;hl=en&amp;start=4&amp;tbnid=Fc_xLr1mKCxyqM:&amp;tbnh=106&amp;tbnw=106&amp;prev=/images%3Fq%3Dmolasses%26svnum%3D10%26hl%3Den%26lr%3D%26rls%3DGGLJ,GGLJ:2006-10,GGLJ: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atures.cgsociety.org/stories/2004_12/haunted_house/haunted_house_big.jpg&amp;imgrefurl=http://features.cgsociety.org/story.php%3Fstory_id%3D2634&amp;h=544&amp;w=900&amp;sz=118&amp;hl=en&amp;start=4&amp;tbnid=fGXmWhmV7BlssM:&amp;tbnh=88&amp;tbnw=146&amp;prev=/images%3Fq%3Dhaunted%2Bhouse%26svnum%3D10%26hl%3Den%26lr%3D%26rls%3DGGLJ,GGLJ:2006-10,GGLJ: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sd.ornl.gov/ern/embyr/fire-crop.gif&amp;imgrefurl=http://www.esd.ornl.gov/ern/embyr/embyr.html&amp;h=692&amp;w=705&amp;sz=341&amp;hl=en&amp;start=6&amp;tbnid=wXfyskKCgP_yuM:&amp;tbnh=137&amp;tbnw=140&amp;prev=/images%3Fq%3Dfire%26svnum%3D10%26hl%3Den%26lr%3D%26rls%3DGGLJ,GGLJ:2006-10,GGLJ: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k2004.com/Stubborn.jpg&amp;imgrefurl=http://www.jek2004.com/originals.htm&amp;h=310&amp;w=400&amp;sz=34&amp;hl=en&amp;start=1&amp;tbnid=imNRXpl2jWXMLM:&amp;tbnh=96&amp;tbnw=124&amp;prev=/images%3Fq%3DStubborn%26svnum%3D10%26hl%3Den%26lr%3D%26rls%3DGGLJ,GGLJ:2006-10,GGLJ: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covery.com/area/skinnyon/skinnyon970509/gallery/icecube.jpg&amp;imgrefurl=http://www.discovery.com/area/skinnyon/skinnyon970509/skinny1.html&amp;h=276&amp;w=350&amp;sz=14&amp;hl=en&amp;start=18&amp;tbnid=qv5T6HmhGwuYvM:&amp;tbnh=95&amp;tbnw=120&amp;prev=/images%3Fq%3Dice%2Bcube%26svnum%3D10%26hl%3Den%26lr%3D%26rls%3DGGLJ,GGLJ:2006-10,GGLJ: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447920"/>
            <a:ext cx="4491000" cy="28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Verbia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ing in discernment or fore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543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To confront in a challenging or aggressiv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d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362320"/>
            <a:ext cx="3610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Concerned with attaining wealth o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c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quisi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362320"/>
            <a:ext cx="33814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Acting in a shifty or underhande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fa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362320"/>
            <a:ext cx="3643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Stimulating to the mind; app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qu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qu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096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Developed or created at the very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yc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or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imord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14600"/>
            <a:ext cx="37195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n object believed to have magical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el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d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lis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362320"/>
            <a:ext cx="23256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make m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v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414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mproper or disrespectful treatment of something considered h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rile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ually silent or quiet, inclined to talk very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i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97360" y="2362320"/>
            <a:ext cx="344664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i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ess, an opening move that is ri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el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124080"/>
            <a:ext cx="2976840" cy="2976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ing in ease of movement or flui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t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819520"/>
            <a:ext cx="2257560" cy="2257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and glo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743200"/>
            <a:ext cx="2752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start f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j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endi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95480"/>
            <a:ext cx="264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lavish 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u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o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j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com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2292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ing to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si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808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sige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743200"/>
            <a:ext cx="28004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n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ge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09680"/>
            <a:ext cx="3086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52:38Z</dcterms:created>
  <dc:creator>User</dc:creator>
  <dc:description/>
  <dc:language>en-US</dc:language>
  <cp:lastModifiedBy>User</cp:lastModifiedBy>
  <dcterms:modified xsi:type="dcterms:W3CDTF">2006-10-10T19:21:01Z</dcterms:modified>
  <cp:revision>3</cp:revision>
  <dc:subject/>
  <dc:title>Slide 1</dc:title>
</cp:coreProperties>
</file>